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2EF-7ACC-4736-848C-EFD5F061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A9CE-3E1E-4104-827E-835808A7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6FC-D824-4DEE-890E-DB33B6881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0562-CF66-4CF9-9ABD-A0E5747B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F535-3B64-4981-8BA7-896E24C0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744D-03E9-4347-9473-CFB3E84A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0BBD-4C31-479E-9AFB-1D201C90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10F3-5AA2-4BB3-8B36-F76375B8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AB44-2D38-4E56-BF54-C1D7C68C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7F79-3D81-4C9F-97B3-F07590D7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095F-9C84-44CB-B9D8-4CCAA122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FDA-8831-4C10-B727-40D8912D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3598-9C54-4D42-96CD-E86DA2DF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89BB-2E58-4FA2-A057-ACBAA8D7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9913-2B2E-421D-A110-DF1EFDD9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7D89-4021-45AE-A4B4-E268A433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29CB-FAF4-46D3-9FA8-41A550A4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78CD-2F92-43FF-A65A-B649AB8E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AF2-AA91-4FE9-903D-AD869173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064-A0F2-415B-B1C9-96B5BA5C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FF82-72F8-4950-84DD-0D7FC890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FB7-CD5D-433D-BD84-8E4EA9A9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FC2D-1B67-4CBB-ADD8-A0FF9343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189-E6D2-4B4C-9BDE-6A5E0B9A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F368-13A1-45B7-853C-74D6C06EEC37}" type="datetime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536F-67EF-4AD9-BFE4-B568B40ED26B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2CAD-E21D-4F8E-A259-49884DB52956}" type="datetime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E932-F814-475D-9B6B-720DA2B52DC5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textmapping.org/copyright.html" TargetMode="External"/><Relationship Id="rId4" Type="http://schemas.openxmlformats.org/officeDocument/2006/relationships/hyperlink" Target="http://www.textmapping.org/copyright.html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www.textmapping.org/copyright.html" TargetMode="External"/><Relationship Id="rId4" Type="http://schemas.openxmlformats.org/officeDocument/2006/relationships/hyperlink" Target="http://www.textmapping.org/copyright.html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BA6C-4CD7-4071-98CB-CCF2A9E88CF2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lease Do Now: 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elements of text (especially written text/textbooks) pose problems for students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lease list as many things as you can think of in 2 minutes.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991080" y="1828440"/>
            <a:ext cx="9829800" cy="4876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3" marL="1639800" indent="-228600"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….determine your goal for reading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4" marL="2097000" indent="-228600">
              <a:spcBef>
                <a:spcPts val="700"/>
              </a:spcBef>
              <a:buClr>
                <a:srgbClr val="33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troduce and preview new content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4" marL="2097000" indent="-228600">
              <a:spcBef>
                <a:spcPts val="700"/>
              </a:spcBef>
              <a:buClr>
                <a:srgbClr val="33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odel reading and study strategie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4" marL="2097000" indent="-228600">
              <a:spcBef>
                <a:spcPts val="700"/>
              </a:spcBef>
              <a:buClr>
                <a:srgbClr val="33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Review content previously covered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4" marL="2097000" indent="-228600">
              <a:spcBef>
                <a:spcPts val="700"/>
              </a:spcBef>
              <a:buClr>
                <a:srgbClr val="33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est your students’ knowledge of what they read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0000"/>
                </a:solidFill>
                <a:latin typeface="Arial"/>
              </a:rPr>
              <a:t>Process</a:t>
            </a:r>
            <a:endParaRPr b="0" lang="en-US" sz="36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3840" y="15490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lvl="1" marL="782640" indent="-285840">
              <a:spcBef>
                <a:spcPts val="601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Next, </a:t>
            </a:r>
            <a:r>
              <a:rPr b="0" lang="en-US" sz="2800" spc="-1" strike="noStrike">
                <a:solidFill>
                  <a:srgbClr val="ff4568"/>
                </a:solidFill>
                <a:latin typeface="Arial"/>
              </a:rPr>
              <a:t>identif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text features that are important to your reading goal. These features are:</a:t>
            </a:r>
            <a:br>
              <a:rPr sz="2800"/>
            </a:b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80ff"/>
                </a:solidFill>
                <a:latin typeface="Arial"/>
              </a:rPr>
              <a:t>Headings and Subheadings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-Illustrations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-Graphs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-Bold faced areas</a:t>
            </a:r>
            <a:br>
              <a:rPr sz="2400"/>
            </a:b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380880" y="4800600"/>
            <a:ext cx="84582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826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rk these features- Particularly the headings and subheading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8458200" cy="17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826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rk the “areal boundaries” of each of these text section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84582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07960" y="2667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826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n have students mark other sections of the tex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dentify what parts of written text are related to graphs, illustrations, photos etc.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rite questions,circle key words and ideas,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ave students express delight by marking ideas that are interesting…i.e. : “Wow!”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Mark transition words- Thus, consequently, however, etc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52280" y="4572000"/>
            <a:ext cx="8469360" cy="20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28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82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After mapping, have students compare/contrast with other groups or individual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82680" indent="-382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iscuss the individual textmaps as a whole group with a “master” map on the board. Create graphic organizer based on the information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52280" y="5791320"/>
            <a:ext cx="8813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opyright © 2002-2004 </a:t>
            </a:r>
            <a:r>
              <a:rPr b="0" lang="en-US" sz="1800" spc="-1" strike="noStrike">
                <a:solidFill>
                  <a:srgbClr val="ffff00"/>
                </a:solidFill>
                <a:latin typeface="Lucida Grande"/>
              </a:rPr>
              <a:t>R. David Middlebrook, </a:t>
            </a:r>
            <a:r>
              <a:rPr b="0" lang="en-US" sz="1200" spc="-1" strike="noStrike">
                <a:solidFill>
                  <a:srgbClr val="ffff00"/>
                </a:solidFill>
                <a:latin typeface="Verdana"/>
              </a:rPr>
              <a:t>Terms of Use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www.textmapping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.org/copyright.htm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5"/>
          <a:stretch/>
        </p:blipFill>
        <p:spPr>
          <a:xfrm>
            <a:off x="4495680" y="228600"/>
            <a:ext cx="3581640" cy="21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Benefits of Text Mapping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330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t is explicit-allowing teachers to model comprehension strategies to kid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eaches students to be strategic readers-gives them a view of the whole text and the relationships between structure, organization, and meaning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Encourages active reading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 textmap is a visual record of an individual’s thought proces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Accommodates a wide range of learning styles and effective for students with LD or ADD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4560"/>
            <a:ext cx="7772400" cy="16066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Review of the Activity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82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reate and hand out the scroll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82680" indent="-382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dentify the text featur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82680" indent="-382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ark headings and subheading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82680" indent="-3826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ark areal boundarie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82680" indent="-3826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Mark rest of text and how the elements relate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82680" indent="-3826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Review as a clas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Understanding Text Structur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82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udents who are taught to identify the structure of expository and narrative text have been found to have better comprehension than students who have not received such instruction.”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aylor, 1992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Teach It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907640"/>
            <a:ext cx="5334120" cy="521676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5731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"/>
              </a:rPr>
              <a:t>How it Helps:</a:t>
            </a:r>
            <a:endParaRPr b="0" lang="en-US" sz="3600" spc="-1" strike="noStrike">
              <a:solidFill>
                <a:srgbClr val="330000"/>
              </a:solidFill>
              <a:latin typeface="Arial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Connects incoming information with what students already know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ncreases reading speed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73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573120" indent="-573120">
              <a:lnSpc>
                <a:spcPct val="90000"/>
              </a:lnSpc>
              <a:spcBef>
                <a:spcPts val="700"/>
              </a:spcBef>
              <a:buClr>
                <a:srgbClr val="33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Helps students retain information for application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6083280" y="2133720"/>
            <a:ext cx="306072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y Teach It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82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tudents must have knowledge of how information is organized and presented through different expository text structures.  Understanding text structures provides a way of identifying which information is most important and which presents supporting details.”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(vanDijk and Kintsch, 1983)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E40C-0EB9-425E-8BFF-9E6CE78E3BF2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Review Text Structure And Its Importance…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1960" y="1587600"/>
            <a:ext cx="8547120" cy="52070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eaching text structure leads to greater student comprehension and independent reading.</a:t>
            </a:r>
            <a:endParaRPr b="0" lang="en-US" sz="3400" spc="-1" strike="noStrike">
              <a:solidFill>
                <a:srgbClr val="33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re are several expository text structures that we can key our students into.  It is a scaffold for their comprehension.</a:t>
            </a:r>
            <a:endParaRPr b="0" lang="en-US" sz="34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D2D6-B5E3-421A-B5D2-B0E186257BD6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-254160" y="303120"/>
            <a:ext cx="4902480" cy="6249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4546440" y="703440"/>
            <a:ext cx="453564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80AB-0387-4DC0-BB63-4119592DF7A0}" type="slidenum">
              <a:rPr b="0" lang="en-US" sz="1400" spc="-1" strike="noStrike">
                <a:solidFill>
                  <a:srgbClr val="33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-195120" y="-12600"/>
            <a:ext cx="5078160" cy="6667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4851360" y="366840"/>
            <a:ext cx="4533840" cy="59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0000"/>
                </a:solidFill>
                <a:latin typeface="Arial"/>
              </a:rPr>
              <a:t>Textmapping</a:t>
            </a:r>
            <a:endParaRPr b="0" lang="en-US" sz="4000" spc="-1" strike="noStrike">
              <a:solidFill>
                <a:srgbClr val="32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64480" cy="1336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469360" cy="26067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760680" y="914400"/>
            <a:ext cx="199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  <a:ea typeface="Times New Roman"/>
              </a:rPr>
              <a:t>Turns this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84720" y="2971800"/>
            <a:ext cx="177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  <a:ea typeface="Times New Roman"/>
              </a:rPr>
              <a:t>Into this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0760" y="6102360"/>
            <a:ext cx="87505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Copyright © 2002-2004 </a:t>
            </a:r>
            <a:r>
              <a:rPr b="0" lang="en-US" sz="1800" spc="-1" strike="noStrike">
                <a:solidFill>
                  <a:srgbClr val="ffff00"/>
                </a:solidFill>
                <a:latin typeface="Lucida Grande"/>
              </a:rPr>
              <a:t>R. David Middlebrook, </a:t>
            </a:r>
            <a:r>
              <a:rPr b="0" lang="en-US" sz="1200" spc="-1" strike="noStrike">
                <a:solidFill>
                  <a:srgbClr val="ffff00"/>
                </a:solidFill>
                <a:latin typeface="Verdana"/>
              </a:rPr>
              <a:t>Terms of Use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http://www.textmapping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.org/copyright.htm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Proces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82680" indent="-382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rst…..make your scrolls.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165240" y="2044800"/>
            <a:ext cx="8664480" cy="1336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914400" y="3822840"/>
            <a:ext cx="716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Times New Roman"/>
                <a:ea typeface="Times New Roman"/>
              </a:rPr>
              <a:t>Utilize students to perform the one “heavy lifting” aspect of this strate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iam Lewis</dc:creator>
  <dc:description/>
  <dc:language>en-US</dc:language>
  <cp:lastModifiedBy>Jessica Jacobs</cp:lastModifiedBy>
  <dcterms:modified xsi:type="dcterms:W3CDTF">2009-08-11T23:46:50Z</dcterms:modified>
  <cp:revision>14</cp:revision>
  <dc:subject/>
  <dc:title>The Responsibility of Making Meaning…</dc:title>
</cp:coreProperties>
</file>